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A08-2B1F-45C2-A6A5-9AE8B8AA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E1C-2B68-4904-93CC-ED8C9EA9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E29-7735-48F2-B959-37648FA9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7C9-276B-4F4A-AA8D-00ADA126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764-08B1-4938-B392-097F700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653-2BD1-48B0-B13D-6A93666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7B4-D0E6-48FC-ABBC-BB8DE49A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29E-BDB1-4AC2-AECB-A14B55BC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6E5-B809-4823-B640-42413785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49B-989F-4167-BBA9-1FC89E5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908-046C-4110-9142-3A18C1B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CD8-7836-4E06-B37D-7A26FE7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351-2A35-41D2-82DB-F3CBA7582C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мена существительные собственные и нарицательны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ла ученик 5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ягин Кири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Что такое имя существительн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840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мя существительное  – это часть речи, обозначающая предмет и выражающая это значение в словоизменительных категориях числа и падежа и в несловоизменительной категории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уществительное называет предметы в широком смысле слова; это – названия вещей (стол, стена, окно, ножницы, сани), лиц (ребенок, девочка, юноша, женщина, человек), веществ (крупа, мука, сахар, сливки), живых существ и организмов (кошка, собака, ворона, дятел, змея, окунь, щука; бактерия, вирус, микроб), фактов, событий, явлений (пожар, спектакль, беседа, каникулы, печаль, страх), а также качеств, свойств, действий, состояний (доброта, глупость, синева, бег, решение, толкотн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Monotype Corsiva"/>
              </a:rPr>
              <a:t>Нарицательные существительные.</a:t>
            </a: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ательные имена существительные называют однородные предметы, которые имеют что-то общее, одинаковое, какое-то сходство (птиц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15" descr="i.jpeg"/>
          <p:cNvPicPr/>
          <p:nvPr/>
        </p:nvPicPr>
        <p:blipFill>
          <a:blip r:embed="rId1"/>
          <a:stretch/>
        </p:blipFill>
        <p:spPr>
          <a:xfrm>
            <a:off x="3575160" y="785880"/>
            <a:ext cx="5111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бственные существ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0.jpg"/>
          <p:cNvPicPr/>
          <p:nvPr/>
        </p:nvPicPr>
        <p:blipFill>
          <a:blip r:embed="rId1"/>
          <a:stretch/>
        </p:blipFill>
        <p:spPr>
          <a:xfrm>
            <a:off x="4030560" y="272880"/>
            <a:ext cx="4200480" cy="585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4005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имена существительные — это названия отдельных лиц, единичных предметов. К собственным именам существительным относятся: 1) имена, фамилии, прозвища, клички (Пётр, Иванов, Шарик); 2) географические названия (Кавказ, Сибирь, Средняя Азия); 3) астрономические названия (Юпитер, Венера, Сатурн); 4) названия праздников (Новый год, День учителя, День защитника Отечества); 5) названия газет, журналов, художественных произведений, предприятий (газета «Труд», роман «Воскресение», издательство «Просвещение»)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к на письме различаются имена собственные и нарицательные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28920"/>
            <a:ext cx="8001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 имена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обственные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ишутся с большой буквы (Москва, Арктика), некоторые также берутся в кавычки (кинотеатр «Космос», газета «Вечерняя Москва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 имена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нарицательны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пишутся с маленькой буквы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гда.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28800" y="1285560"/>
            <a:ext cx="7572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www.traktat.com/language/book/sush/sob.php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rusgram.narod.ru/1121-1146.html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ru.wikipedia.org/wiki/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Нарица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27:02Z</dcterms:created>
  <dc:creator>НАСТАСЬЯ</dc:creator>
  <dc:description/>
  <dc:language>en-US</dc:language>
  <cp:lastModifiedBy>UserXP</cp:lastModifiedBy>
  <dcterms:modified xsi:type="dcterms:W3CDTF">2010-04-28T17:01:59Z</dcterms:modified>
  <cp:revision>5</cp:revision>
  <dc:subject/>
  <dc:title>Имена существительные собственные и нарицательные.</dc:title>
</cp:coreProperties>
</file>